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7B580-0580-49D9-B1B9-37EC092D124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6ABAE2-E621-4BDA-9D12-6E1965B4C4F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9" name="PlaceHolder 1"/>
          <p:cNvSpPr>
            <a:spLocks noGrp="1"/>
          </p:cNvSpPr>
          <p:nvPr>
            <p:ph type="sldImg"/>
          </p:nvPr>
        </p:nvSpPr>
        <p:spPr>
          <a:xfrm>
            <a:off x="985680" y="733320"/>
            <a:ext cx="4886640" cy="3665520"/>
          </a:xfrm>
          <a:prstGeom prst="rect">
            <a:avLst/>
          </a:prstGeom>
          <a:ln w="0">
            <a:noFill/>
          </a:ln>
        </p:spPr>
      </p:sp>
      <p:sp>
        <p:nvSpPr>
          <p:cNvPr id="89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6D46C-C45B-43B1-B4BE-16FAE18502D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60A84-35B1-4E39-93C4-4FBE1A7B728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A8313-BE37-499C-9AD7-1FE3CD25B85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EDF29-5246-45DA-992F-50558440AE1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39D38-AE44-4FD2-8EE5-097C51C577D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1F15C-0BAE-4F3B-91D6-A6044D9F6C0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47F98-782C-404D-85D5-721CD57B2FF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54E2D-74AD-4087-AABC-C7639EF430F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45D01-94D7-437C-8D3D-E2A8E4149BE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A2354-1C1C-4BCE-BE0C-51B8739D983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F5D85-A3FC-4379-B71F-01368DE7D71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384DE-2237-4190-A6D0-5D5478F9863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B9841-EBF5-4569-8C47-B0A89248665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9482C-65C7-40CD-B9CA-E7F8E0532FC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45F67-B4C6-41DE-8EC1-446FA5D175C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118E4-A07A-4820-8370-6A8814366AF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B61AD-E9F4-4FC8-B0BA-BA5675749C0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FF225-F6B3-44D8-A863-943F20DA80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78913-83C8-41DA-BE13-C7388BC603A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85F26-D7E2-4C79-A855-8749EC811BB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56D81-68B4-4299-8B33-BA538492B1A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B2846-1FE1-444E-83E2-21CDFF4C6B9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1650C-F555-4DEE-B5B8-C360F77FEA3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8044B-5250-4EC5-B685-758B4EA154F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BA2DB-1852-4ADC-8D45-F5F4D9719C5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9050C-56FA-4E5F-BEC0-3FB10C9797F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46B7C-3C45-4AFA-872B-F69CC48DA60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258EC-9A55-4DC2-BFC5-50CFD931DEF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8E4C2-EF4E-4DA2-A06B-E7A706DBCF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CCF6C-78D5-4D83-98F5-74028DA544C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27CC5-5AB3-420B-BD7D-39669D2EF6F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9B92B6-A1EB-4B4F-B09F-9DE59CC6237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1" name="PlaceHolder 1"/>
          <p:cNvSpPr>
            <a:spLocks noGrp="1"/>
          </p:cNvSpPr>
          <p:nvPr>
            <p:ph type="sldImg"/>
          </p:nvPr>
        </p:nvSpPr>
        <p:spPr>
          <a:xfrm>
            <a:off x="985680" y="741240"/>
            <a:ext cx="4886640" cy="3665520"/>
          </a:xfrm>
          <a:prstGeom prst="rect">
            <a:avLst/>
          </a:prstGeom>
          <a:ln w="0">
            <a:noFill/>
          </a:ln>
        </p:spPr>
      </p:sp>
      <p:sp>
        <p:nvSpPr>
          <p:cNvPr id="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123E3-FBB4-4CEA-8BAA-86E184F6B8B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583B1-8A20-4FCA-AEF5-DB6A680C150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F968DB-015A-4FEF-B58D-C0F846B85DB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9C29E-3AA4-43BC-9E68-6C3BE331147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8C008-329F-458C-B0B2-85C325ECFB5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18B7A-5342-4ECF-843C-BB308319C18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3" name="PlaceHolder 1"/>
          <p:cNvSpPr>
            <a:spLocks noGrp="1"/>
          </p:cNvSpPr>
          <p:nvPr>
            <p:ph type="sldImg"/>
          </p:nvPr>
        </p:nvSpPr>
        <p:spPr>
          <a:xfrm>
            <a:off x="985680" y="741240"/>
            <a:ext cx="4886640" cy="3665520"/>
          </a:xfrm>
          <a:prstGeom prst="rect">
            <a:avLst/>
          </a:prstGeom>
          <a:ln w="0">
            <a:noFill/>
          </a:ln>
        </p:spPr>
      </p:sp>
      <p:sp>
        <p:nvSpPr>
          <p:cNvPr id="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1C88A-4223-49B4-8227-C6E321DBB63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050E5-F3D9-454A-AE48-7B8E94384E3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5A6C9-7301-4766-A035-5DBAF59C29A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2F5CF-B24D-4B79-97A4-4DCE21A7D3D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3924F-0ED4-4DB8-97D2-AAD222B1E45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71B0D-8AFA-4624-AA3D-2FADF6951C9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B8083-6F09-4809-A830-48CCB92F703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C3588-1C92-49DD-94F3-A1A19800906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5" name="PlaceHolder 1"/>
          <p:cNvSpPr>
            <a:spLocks noGrp="1"/>
          </p:cNvSpPr>
          <p:nvPr>
            <p:ph type="sldImg"/>
          </p:nvPr>
        </p:nvSpPr>
        <p:spPr>
          <a:xfrm>
            <a:off x="985680" y="741240"/>
            <a:ext cx="4886640" cy="3665520"/>
          </a:xfrm>
          <a:prstGeom prst="rect">
            <a:avLst/>
          </a:prstGeom>
          <a:ln w="0">
            <a:noFill/>
          </a:ln>
        </p:spPr>
      </p:sp>
      <p:sp>
        <p:nvSpPr>
          <p:cNvPr id="1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CD56B-D026-4939-B8B9-A9223FAFD0B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23E66-D260-457D-A244-90B0FF05E4E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F6A1F-0021-4DFB-A26F-9B7BDCBAA5F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A92D7-18EE-45D8-9E48-EE7C2BC7718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8765E-5C05-4015-BA18-56F415A4396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1FC99-2A62-41C7-A143-F1EF3682C15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7" name="PlaceHolder 1"/>
          <p:cNvSpPr>
            <a:spLocks noGrp="1"/>
          </p:cNvSpPr>
          <p:nvPr>
            <p:ph type="sldImg"/>
          </p:nvPr>
        </p:nvSpPr>
        <p:spPr>
          <a:xfrm>
            <a:off x="985680" y="741240"/>
            <a:ext cx="4886640" cy="3665520"/>
          </a:xfrm>
          <a:prstGeom prst="rect">
            <a:avLst/>
          </a:prstGeom>
          <a:ln w="0">
            <a:noFill/>
          </a:ln>
        </p:spPr>
      </p:sp>
      <p:sp>
        <p:nvSpPr>
          <p:cNvPr id="10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FDF7C-38A9-4915-9688-8A71F03E607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86713-D1AD-41A9-A2AB-CA341926651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1146E-FEC8-486F-8CEB-26C6170AA05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95FEE-E54B-40D7-B0B3-2FB2D5D4D5D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A5C99-0BF2-4AAB-AE45-397414EEF9F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58EDB-5891-4DBE-9AB0-DC7896D7D12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9" name="PlaceHolder 1"/>
          <p:cNvSpPr>
            <a:spLocks noGrp="1"/>
          </p:cNvSpPr>
          <p:nvPr>
            <p:ph type="sldImg"/>
          </p:nvPr>
        </p:nvSpPr>
        <p:spPr>
          <a:xfrm>
            <a:off x="985680" y="741240"/>
            <a:ext cx="4886640" cy="3665520"/>
          </a:xfrm>
          <a:prstGeom prst="rect">
            <a:avLst/>
          </a:prstGeom>
          <a:ln w="0">
            <a:noFill/>
          </a:ln>
        </p:spPr>
      </p:sp>
      <p:sp>
        <p:nvSpPr>
          <p:cNvPr id="10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CA39B-8ADF-44E0-BF04-E9D0B02DE0E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C98C2-4BA6-4523-9FB8-F602A83403E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B00D8-DF61-40C8-96BC-5884106C555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E124E-6605-4C00-A5F9-6B87899DB6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6AC4C-272D-4FB7-9536-EE4686D41EF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40" name="PlaceHolder 1"/>
          <p:cNvSpPr>
            <a:spLocks noGrp="1"/>
          </p:cNvSpPr>
          <p:nvPr>
            <p:ph type="sldImg"/>
          </p:nvPr>
        </p:nvSpPr>
        <p:spPr>
          <a:xfrm>
            <a:off x="985680" y="733320"/>
            <a:ext cx="4886640" cy="3665520"/>
          </a:xfrm>
          <a:prstGeom prst="rect">
            <a:avLst/>
          </a:prstGeom>
          <a:ln w="0">
            <a:noFill/>
          </a:ln>
        </p:spPr>
      </p:sp>
      <p:sp>
        <p:nvSpPr>
          <p:cNvPr id="104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FF202-4517-4AA3-AFDC-92B66921F6E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57BA6-1EC9-4400-AAEF-A10E23A92E7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7B259-2AD6-4C29-A404-8F6FDED2916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2A7E1-E2EF-4F61-826A-E61DAE2800B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42C5F-79C6-4273-BD63-E23CBCCE845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E41AE-E698-41F9-B581-36F63F82003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6372D-C32C-4CC2-A8F8-C39B7EF21F9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68CE5-BE79-4317-A78B-BEE43768F86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0675B-C3DF-462C-963F-2AF31A2CFA3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B1574-BC8A-49C1-9487-5649A60CCDE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BFF1A-1E9A-475B-A291-A8748821158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0A1A3-BE1B-4503-9D17-20AEE392CA1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C78F6-D27C-409F-B457-D3D8E89A9B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6460C85-45B7-48A6-AA68-A6F6F6AFA0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ACDCACA-848E-4F32-B790-0AD04DAE18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BA20DD12-6EDA-4E74-8B5A-FE43FCF18C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4A201DCD-96C6-4BEB-8521-4711FC4312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D456F9C-55A7-450B-88BB-20EE487F80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DBBE3DB-B527-4C04-A486-25463644FF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F9B1C04-2FAC-4510-806C-57C38870A3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67D6AC1-7104-493B-9519-F30A736877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45F37C7-40C7-40C0-8B3E-523692871BF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F03FAD3-E230-4339-B26C-68A1255091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A487514-A897-4D70-87F2-18251E3A13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F5C8DDB-6A10-45E8-8674-11A3E3AD1D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C4FB3180-3CE9-4361-9F89-73D9B81A1E8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4E31B41D-9376-4207-9BEE-928FF35975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F9DF012-4B84-4D8D-B282-C8BB4A4B0BB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B3B92EC3-C633-4A51-9DF4-17FD986FB40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476E1A5-EAF9-4070-8FCB-7075E505A29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9D99A85-7A5A-43A1-B28B-20A660C57B8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24AFD65-3CBC-4EC3-9727-516C0E7D135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5AF486C-D96D-4C39-843B-3BF87AF687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F14A46C-D938-4A8C-BA69-09C1995139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B965281-79BB-4D20-9679-A7E5474E6F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83B54BF-D8A5-479A-B446-BDF6FDC787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5335B36D-11AF-48E5-9B0A-3FCF856FCEA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C2FFABF-B07F-4D92-87CE-3DC7869132C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C4DC2C1-2364-45F1-A2B2-C2C583E614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184882DC-8A4E-4B90-953B-9381E4EB9B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713FDF1-39DD-4A2B-A3EC-6866B34E80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A7EFEB3-82AC-4AF2-B907-67BC3821B9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78BA3B3-336B-4664-8E44-10343E3731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8EA12A8-339F-479E-B2ED-955C6CC4912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1FBA060-5BB1-4BCC-A0F2-F7B8A919F2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775DC3DE-6878-4ED9-8B0F-6BA97F6FC0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3B031D-22AF-4A4C-942B-B0F3DCE8F9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C762877-7899-4EBC-9D60-2931688D48E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BEEF2C7-693A-42F4-B947-E90F5FFF54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E8C1929-DB61-4DF3-B365-9DEE58D777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9C5B0C1-3CEF-48F4-8724-9F46D40138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34593BA-62A0-4FA2-B7BB-8B0DC9612D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5C993E1-201A-46EF-AE87-8ADC24F4A1B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B088835-066A-479F-A520-E6CE6DCDBA9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D101CB7-8A58-4F85-BE83-4AC88FE440E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D248AAD4-21BF-4A46-9CDE-C9CC15DC644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CF7A477-E8E0-4BC9-A054-BE463B4393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19C95F6-A2E0-4C19-8B1F-F49AC96D5F7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5570F96-031E-4B51-B66C-E561A5B4BA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EE6877A-447C-4DC3-A6F4-FBFBDF80EBA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828F21FE-94C7-4A9B-938B-2E46BF4EBE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8C36CFB-BDEC-48CA-AFD9-86C42D02FE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EEC982EE-A6AF-4A27-934E-7C44D989C7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055DF48-1491-4D56-A232-1891EA43576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563547A-C9DF-413A-9B50-AB3C75B21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0595573-721D-48CE-A76D-ECF531FFD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E6E728D-4EAE-4C97-AD76-17079E29C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A33CE28F-E995-4C23-8490-502D30BFFD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1F795CD-2441-4DB7-97EB-1BDDC249356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DF5B1ADE-A719-4DD2-935B-2CAD0B424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2EA505D-DC49-43B0-AFA3-9BDF2FEDA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B624210-9409-46C3-8EAF-E25A2181F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F7FA147-7378-41B9-B3CF-FBDE80C06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CF4C4B2A-B1CE-42E0-9473-E6E842F5B7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FDBB910-2C60-4C2F-86A1-8D2F708D4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8AA60D26-1372-47C7-BC41-9C7998B66B7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E5F04AC-9D79-4AF1-8CCF-79B29A2ADE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5B5FCDF-52FA-4F0D-A4E6-2181453B50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135F255-AC18-4557-8C04-BD145378C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EE6987A-117F-4C7F-AC0C-EE64F4DE3E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C0A52F4-36B2-4A1F-B642-469D1EE786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85E752-A98E-4F73-A28E-3DF59836D1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B49AAA3-2AFE-41AA-BA71-ADF83AA1F7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00EF4F1-4BA3-4723-B152-DC46BDA290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D889617-A876-446A-851D-1C17A54245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A73A4F1-A0CE-4B6C-8B86-2BB677D2D3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59298A-2603-4465-8660-13B3DDD6A3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AE2263-96DD-4B8F-9B20-D2A42AC750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2ADE81-CDBF-4103-9705-AD8A1F769F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609C596-E749-45D4-98E9-3CBEE118A2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6CDB84-4449-4E38-AC85-F16DF3DA7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D064449-3B49-4E51-AB99-F7CD4185D0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557749B-0663-419A-812E-21C7E2CD53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FEBCE30-363C-4497-8F2B-15BF403E01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A8C3BEB-622B-4D4D-89A6-838946C943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BA62FC8-3992-48FC-8363-9E3FE23064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2851C99-3EFC-4CFA-84D2-D93FBB4DCC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02496B77-8A4B-4466-AD98-06E8B195C6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2E227E3-C553-4529-BD38-4CDC0116A8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567017-2B89-4ABF-93EF-C206BCB9F44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B7F9F37-A696-4113-9DE6-E6F62EA4AC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2FF547E-5F67-4321-872D-0810B414E5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F9B15C9-E6A7-4F30-93B2-31A2AAA589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07415BD-2E03-4B74-9DB4-BBD65419C52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DBA0EF4-203D-4D80-B8F0-BA7C888C8F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FC3D5F31-0968-4C5E-820E-3E73363C43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4B36E8C-C98A-4679-8B26-9BB44B5336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525876F-9330-4F00-8FDC-19603AA78D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77EAA99-D53F-4834-870A-F1959BFC98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B232D9D-C35A-45DF-BA44-0AD7C87A70F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42D3AC3-C4D9-4824-A853-8B6A2EA60D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435FEFC-B606-48AF-B031-091C935E8CD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38D498-A641-46A8-B728-5C110DEF7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632BD32-F04E-4149-94CB-FF5F5DBE2F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72D35F7-9E0D-4BAF-B051-5F5ECD4991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6E8E6F1-383F-4169-9E5F-D74130DC0E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1FDF7F5-3638-4960-A007-7E9306860A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321E3BC-B2DE-4BFE-9994-4BDB816434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89CCB77D-62D7-4C0B-9BBB-6B4A2C0BBB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26E4142-AC94-42D2-B5C9-9D868EE1680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937B1E3-F08A-49E9-84BB-92E341DB11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2DB0801-D4CB-42AE-A3C1-3F7B9A775A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06BD309-2296-4559-9CB6-08ED99DF31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E51DB4D-D2A6-4213-A89A-CC3058B96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6317F01-1CCE-4DD9-B14A-18C7694A3E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6E62AD41-5D5F-43C6-9B29-32F250019A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EB27EF-4256-4791-BE02-0C91995917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3C63A47-E10E-47F1-8468-6AB1A6A3C90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9013837-7E23-4D0D-8975-04775F7AFE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4277323-5A4B-45CB-A06F-028B940477A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94A153B-7BB2-4CC0-BAC6-468FE115CA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0C8BD538-DAA7-41FA-B345-97AF929527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BC730F3-8795-4028-B78A-0B07C0E380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339F64F-AC08-4DBF-9505-AF620FBD6F0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5521312-CDFA-4DE5-B70E-85C370023D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46791AA-5E50-44AF-866B-902C701A26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5BD9214-BC7D-4AD6-ABB9-4D855A511BD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1D737BA-8F17-46B1-B3A3-94DC02A54F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C455C32-0458-4947-AF3B-2EB96BF6C6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B585A27-5CB1-4C87-A3A4-B5EB0B137D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92FB60F-AEAF-467E-9F01-70ABF475FF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CC6790A-9F34-4E8E-ACF2-61067DF2B51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2542FD6-F767-469D-8E48-7B927572AC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17CDA9A6-F447-40A2-B96B-9A81C1F465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DA48086C-B658-4FF0-897E-0E446DC539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D28D937-5AE8-4B9F-8FCE-3F55E1EB2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9F39C1F-49D4-481A-9F53-6D8B40D026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9577A39-54A4-4CF6-BC3D-C7E0678A6D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03A5B44-C55D-426B-ABEC-3D2E4B1C7AE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CC3A12A1-34CE-4BEE-833A-C614B3B472E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7059F77-E21B-4ECB-8ABC-BE4AC9ACA35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63475D9-A59A-4704-A109-A8D1406AAF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60B89FB-CBB4-42F7-A7F5-3F9FAF0F56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0CCE2BD-9083-4546-8CE4-935F2B4134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7855703-6FC3-4AA2-9FEF-2356F301274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788F8E3-4CAA-486C-8524-81A86E48F6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8C712F9-D174-4CBB-A7ED-C845292B16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6DB08C1-D37B-48FF-B8C5-05BDB98DCE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2B1A9CB-9B42-46DA-9ABB-D5250C5C02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A7624C3-A292-4199-8C29-EE5CED40FC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986B6859-7602-4B4B-ADB3-F47470709C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57B2DDB-0B6C-4A10-BE18-080F1DC47C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B3A10A6-A884-474B-B745-DEE938A3A2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8AF7815-1CA7-49DF-8B53-1664CDA676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7905613-5FF4-4CDF-8549-C5E5E4CDB7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7B5D066-0F15-44CE-8F41-85F3A37A59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1FAD4B4-B102-4B52-99E7-E39623DD05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D4EFDA2-C456-4CEB-B67E-D1B55D5D6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E88B5-95C2-4416-A1AC-C872661BB49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DF4E2-A5BE-48D7-A3D0-768A39E923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8CD75-B145-47F1-AE52-D29E62EA1B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A12DC-840D-4C6C-B9BC-99AB5EE3F8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59C81-9E58-4869-BDBB-3D81722BCBF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E5CC1-558E-42CB-8086-92244793E2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EE166-324B-4E37-A42A-F359E8C2A3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438D6-FE78-442D-9B8A-473C347BCF5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18F8D-ED39-43AA-9580-F559E668A4D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E3D13-980C-461B-843A-3AEB6D8F0CA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312A6-F28D-4CDB-A13E-89F502EB416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DDE79-BC90-45E7-A576-9D40BE58C8C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97725-4D27-4C2A-8986-1A9B2653542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539640" y="1392120"/>
            <a:ext cx="8136000" cy="4392720"/>
          </a:xfrm>
          <a:prstGeom prst="rect">
            <a:avLst/>
          </a:prstGeom>
          <a:noFill/>
          <a:ln w="0">
            <a:noFill/>
          </a:ln>
        </p:spPr>
        <p:style>
          <a:lnRef idx="0"/>
          <a:fillRef idx="0"/>
          <a:effectRef idx="0"/>
          <a:fontRef idx="minor"/>
        </p:style>
        <p:txBody>
          <a:bodyPr lIns="90000" rIns="90000" tIns="46800" bIns="46800" anchor="ctr">
            <a:normAutofit fontScale="94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rmAutofit fontScale="97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Μαντά Αικατερίνη</a:t>
            </a:r>
            <a:br>
              <a:rPr sz="1800"/>
            </a:b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116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826920" y="1413000"/>
            <a:ext cx="7596360" cy="439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69236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863640" y="1628640"/>
            <a:ext cx="7596000" cy="4156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Text Box 1"/>
          <p:cNvSpPr/>
          <p:nvPr/>
        </p:nvSpPr>
        <p:spPr>
          <a:xfrm>
            <a:off x="826920" y="1341360"/>
            <a:ext cx="7596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ffffff"/>
              </a:solidFill>
              <a:latin typeface="Times New Roman"/>
            </a:endParaRPr>
          </a:p>
        </p:txBody>
      </p:sp>
      <p:grpSp>
        <p:nvGrpSpPr>
          <p:cNvPr id="793" name="Group 2"/>
          <p:cNvGrpSpPr/>
          <p:nvPr/>
        </p:nvGrpSpPr>
        <p:grpSpPr>
          <a:xfrm>
            <a:off x="0" y="115920"/>
            <a:ext cx="9140760" cy="6548400"/>
            <a:chOff x="0" y="115920"/>
            <a:chExt cx="9140760" cy="6548400"/>
          </a:xfrm>
        </p:grpSpPr>
        <p:grpSp>
          <p:nvGrpSpPr>
            <p:cNvPr id="794" name="Group 3"/>
            <p:cNvGrpSpPr/>
            <p:nvPr/>
          </p:nvGrpSpPr>
          <p:grpSpPr>
            <a:xfrm>
              <a:off x="0" y="115920"/>
              <a:ext cx="9140760" cy="6548400"/>
              <a:chOff x="0" y="115920"/>
              <a:chExt cx="9140760" cy="6548400"/>
            </a:xfrm>
          </p:grpSpPr>
          <p:sp>
            <p:nvSpPr>
              <p:cNvPr id="7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9" name="Rectangle 8"/>
          <p:cNvSpPr/>
          <p:nvPr/>
        </p:nvSpPr>
        <p:spPr>
          <a:xfrm>
            <a:off x="111600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61128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ffffff"/>
              </a:solidFill>
              <a:latin typeface="Times New Roman"/>
            </a:endParaRPr>
          </a:p>
        </p:txBody>
      </p:sp>
      <p:grpSp>
        <p:nvGrpSpPr>
          <p:cNvPr id="802" name="Group 2"/>
          <p:cNvGrpSpPr/>
          <p:nvPr/>
        </p:nvGrpSpPr>
        <p:grpSpPr>
          <a:xfrm>
            <a:off x="0" y="115920"/>
            <a:ext cx="9140760" cy="6548400"/>
            <a:chOff x="0" y="115920"/>
            <a:chExt cx="9140760" cy="6548400"/>
          </a:xfrm>
        </p:grpSpPr>
        <p:grpSp>
          <p:nvGrpSpPr>
            <p:cNvPr id="803" name="Group 3"/>
            <p:cNvGrpSpPr/>
            <p:nvPr/>
          </p:nvGrpSpPr>
          <p:grpSpPr>
            <a:xfrm>
              <a:off x="0" y="115920"/>
              <a:ext cx="9140760" cy="6548400"/>
              <a:chOff x="0" y="115920"/>
              <a:chExt cx="9140760" cy="6548400"/>
            </a:xfrm>
          </p:grpSpPr>
          <p:sp>
            <p:nvSpPr>
              <p:cNvPr id="8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ffffff"/>
              </a:solidFill>
              <a:latin typeface="Times New Roman"/>
            </a:endParaRPr>
          </a:p>
        </p:txBody>
      </p:sp>
      <p:grpSp>
        <p:nvGrpSpPr>
          <p:cNvPr id="811" name="Group 2"/>
          <p:cNvGrpSpPr/>
          <p:nvPr/>
        </p:nvGrpSpPr>
        <p:grpSpPr>
          <a:xfrm>
            <a:off x="0" y="115920"/>
            <a:ext cx="9140760" cy="6548400"/>
            <a:chOff x="0" y="115920"/>
            <a:chExt cx="9140760" cy="6548400"/>
          </a:xfrm>
        </p:grpSpPr>
        <p:grpSp>
          <p:nvGrpSpPr>
            <p:cNvPr id="812" name="Group 3"/>
            <p:cNvGrpSpPr/>
            <p:nvPr/>
          </p:nvGrpSpPr>
          <p:grpSpPr>
            <a:xfrm>
              <a:off x="0" y="115920"/>
              <a:ext cx="9140760" cy="6548400"/>
              <a:chOff x="0" y="115920"/>
              <a:chExt cx="9140760" cy="6548400"/>
            </a:xfrm>
          </p:grpSpPr>
          <p:sp>
            <p:nvSpPr>
              <p:cNvPr id="8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Rectangle 8"/>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1"/>
          <p:cNvSpPr/>
          <p:nvPr/>
        </p:nvSpPr>
        <p:spPr>
          <a:xfrm>
            <a:off x="863640" y="1197000"/>
            <a:ext cx="788508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ffffff"/>
              </a:solidFill>
              <a:latin typeface="Times New Roman"/>
            </a:endParaRPr>
          </a:p>
        </p:txBody>
      </p:sp>
      <p:grpSp>
        <p:nvGrpSpPr>
          <p:cNvPr id="820" name="Group 2"/>
          <p:cNvGrpSpPr/>
          <p:nvPr/>
        </p:nvGrpSpPr>
        <p:grpSpPr>
          <a:xfrm>
            <a:off x="0" y="115920"/>
            <a:ext cx="9140760" cy="6548400"/>
            <a:chOff x="0" y="115920"/>
            <a:chExt cx="9140760" cy="6548400"/>
          </a:xfrm>
        </p:grpSpPr>
        <p:grpSp>
          <p:nvGrpSpPr>
            <p:cNvPr id="821" name="Group 3"/>
            <p:cNvGrpSpPr/>
            <p:nvPr/>
          </p:nvGrpSpPr>
          <p:grpSpPr>
            <a:xfrm>
              <a:off x="0" y="115920"/>
              <a:ext cx="9140760" cy="6548400"/>
              <a:chOff x="0" y="115920"/>
              <a:chExt cx="9140760" cy="6548400"/>
            </a:xfrm>
          </p:grpSpPr>
          <p:sp>
            <p:nvSpPr>
              <p:cNvPr id="8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ffffff"/>
              </a:solidFill>
              <a:latin typeface="Times New Roman"/>
            </a:endParaRPr>
          </a:p>
        </p:txBody>
      </p:sp>
      <p:grpSp>
        <p:nvGrpSpPr>
          <p:cNvPr id="829" name="Group 2"/>
          <p:cNvGrpSpPr/>
          <p:nvPr/>
        </p:nvGrpSpPr>
        <p:grpSpPr>
          <a:xfrm>
            <a:off x="0" y="115920"/>
            <a:ext cx="9140760" cy="6548400"/>
            <a:chOff x="0" y="115920"/>
            <a:chExt cx="9140760" cy="6548400"/>
          </a:xfrm>
        </p:grpSpPr>
        <p:grpSp>
          <p:nvGrpSpPr>
            <p:cNvPr id="830" name="Group 3"/>
            <p:cNvGrpSpPr/>
            <p:nvPr/>
          </p:nvGrpSpPr>
          <p:grpSpPr>
            <a:xfrm>
              <a:off x="0" y="115920"/>
              <a:ext cx="9140760" cy="6548400"/>
              <a:chOff x="0" y="115920"/>
              <a:chExt cx="9140760" cy="6548400"/>
            </a:xfrm>
          </p:grpSpPr>
          <p:sp>
            <p:nvSpPr>
              <p:cNvPr id="8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ffffff"/>
              </a:solidFill>
              <a:latin typeface="Times New Roman"/>
            </a:endParaRPr>
          </a:p>
        </p:txBody>
      </p:sp>
      <p:grpSp>
        <p:nvGrpSpPr>
          <p:cNvPr id="838" name="Group 2"/>
          <p:cNvGrpSpPr/>
          <p:nvPr/>
        </p:nvGrpSpPr>
        <p:grpSpPr>
          <a:xfrm>
            <a:off x="0" y="115920"/>
            <a:ext cx="9140760" cy="6548400"/>
            <a:chOff x="0" y="115920"/>
            <a:chExt cx="9140760" cy="6548400"/>
          </a:xfrm>
        </p:grpSpPr>
        <p:grpSp>
          <p:nvGrpSpPr>
            <p:cNvPr id="839" name="Group 3"/>
            <p:cNvGrpSpPr/>
            <p:nvPr/>
          </p:nvGrpSpPr>
          <p:grpSpPr>
            <a:xfrm>
              <a:off x="0" y="115920"/>
              <a:ext cx="9140760" cy="6548400"/>
              <a:chOff x="0" y="115920"/>
              <a:chExt cx="9140760" cy="6548400"/>
            </a:xfrm>
          </p:grpSpPr>
          <p:sp>
            <p:nvSpPr>
              <p:cNvPr id="8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ffffff"/>
              </a:solidFill>
              <a:latin typeface="Times New Roman"/>
            </a:endParaRPr>
          </a:p>
        </p:txBody>
      </p:sp>
      <p:grpSp>
        <p:nvGrpSpPr>
          <p:cNvPr id="847" name="Group 2"/>
          <p:cNvGrpSpPr/>
          <p:nvPr/>
        </p:nvGrpSpPr>
        <p:grpSpPr>
          <a:xfrm>
            <a:off x="0" y="115920"/>
            <a:ext cx="9140760" cy="6548400"/>
            <a:chOff x="0" y="115920"/>
            <a:chExt cx="9140760" cy="6548400"/>
          </a:xfrm>
        </p:grpSpPr>
        <p:grpSp>
          <p:nvGrpSpPr>
            <p:cNvPr id="848" name="Group 3"/>
            <p:cNvGrpSpPr/>
            <p:nvPr/>
          </p:nvGrpSpPr>
          <p:grpSpPr>
            <a:xfrm>
              <a:off x="0" y="115920"/>
              <a:ext cx="9140760" cy="6548400"/>
              <a:chOff x="0" y="115920"/>
              <a:chExt cx="9140760" cy="6548400"/>
            </a:xfrm>
          </p:grpSpPr>
          <p:sp>
            <p:nvSpPr>
              <p:cNvPr id="8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856" name="Group 2"/>
          <p:cNvGrpSpPr/>
          <p:nvPr/>
        </p:nvGrpSpPr>
        <p:grpSpPr>
          <a:xfrm>
            <a:off x="0" y="115920"/>
            <a:ext cx="9140760" cy="6548400"/>
            <a:chOff x="0" y="115920"/>
            <a:chExt cx="9140760" cy="6548400"/>
          </a:xfrm>
        </p:grpSpPr>
        <p:grpSp>
          <p:nvGrpSpPr>
            <p:cNvPr id="857" name="Group 3"/>
            <p:cNvGrpSpPr/>
            <p:nvPr/>
          </p:nvGrpSpPr>
          <p:grpSpPr>
            <a:xfrm>
              <a:off x="0" y="115920"/>
              <a:ext cx="9140760" cy="6548400"/>
              <a:chOff x="0" y="115920"/>
              <a:chExt cx="9140760" cy="6548400"/>
            </a:xfrm>
          </p:grpSpPr>
          <p:sp>
            <p:nvSpPr>
              <p:cNvPr id="8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ffffff"/>
              </a:solidFill>
              <a:latin typeface="Times New Roman"/>
            </a:endParaRPr>
          </a:p>
        </p:txBody>
      </p:sp>
      <p:grpSp>
        <p:nvGrpSpPr>
          <p:cNvPr id="865" name="Group 2"/>
          <p:cNvGrpSpPr/>
          <p:nvPr/>
        </p:nvGrpSpPr>
        <p:grpSpPr>
          <a:xfrm>
            <a:off x="0" y="115920"/>
            <a:ext cx="9140760" cy="6548400"/>
            <a:chOff x="0" y="115920"/>
            <a:chExt cx="9140760" cy="6548400"/>
          </a:xfrm>
        </p:grpSpPr>
        <p:grpSp>
          <p:nvGrpSpPr>
            <p:cNvPr id="866" name="Group 3"/>
            <p:cNvGrpSpPr/>
            <p:nvPr/>
          </p:nvGrpSpPr>
          <p:grpSpPr>
            <a:xfrm>
              <a:off x="0" y="115920"/>
              <a:ext cx="9140760" cy="6548400"/>
              <a:chOff x="0" y="115920"/>
              <a:chExt cx="9140760" cy="6548400"/>
            </a:xfrm>
          </p:grpSpPr>
          <p:sp>
            <p:nvSpPr>
              <p:cNvPr id="8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ffffff"/>
              </a:solidFill>
              <a:latin typeface="Times New Roman"/>
            </a:endParaRPr>
          </a:p>
        </p:txBody>
      </p:sp>
      <p:grpSp>
        <p:nvGrpSpPr>
          <p:cNvPr id="874" name="Group 2"/>
          <p:cNvGrpSpPr/>
          <p:nvPr/>
        </p:nvGrpSpPr>
        <p:grpSpPr>
          <a:xfrm>
            <a:off x="0" y="115920"/>
            <a:ext cx="9140760" cy="6548400"/>
            <a:chOff x="0" y="115920"/>
            <a:chExt cx="9140760" cy="6548400"/>
          </a:xfrm>
        </p:grpSpPr>
        <p:grpSp>
          <p:nvGrpSpPr>
            <p:cNvPr id="875" name="Group 3"/>
            <p:cNvGrpSpPr/>
            <p:nvPr/>
          </p:nvGrpSpPr>
          <p:grpSpPr>
            <a:xfrm>
              <a:off x="0" y="115920"/>
              <a:ext cx="9140760" cy="6548400"/>
              <a:chOff x="0" y="115920"/>
              <a:chExt cx="9140760" cy="6548400"/>
            </a:xfrm>
          </p:grpSpPr>
          <p:sp>
            <p:nvSpPr>
              <p:cNvPr id="8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1"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395280" y="3573360"/>
            <a:ext cx="8137440" cy="201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800" spc="-1" strike="noStrike">
                <a:solidFill>
                  <a:srgbClr val="000000"/>
                </a:solidFill>
                <a:latin typeface="Arial"/>
                <a:ea typeface="Arial"/>
              </a:rPr>
              <a:t>ΤΜΗΜΑ ΕΛΛΗΝΙΚΗΣ ΦΙΛΟΛΟΓΙΑΣ ΔΗΜΟΚΡΙΤΕΙΟΥ ΠΑΝΕΠΙΣΤΗΜΙΟΥ ΘΡΑΚΗΣ-</a:t>
            </a:r>
            <a:endParaRPr b="0" lang="en-US" sz="18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800" spc="-1" strike="noStrike">
                <a:solidFill>
                  <a:srgbClr val="000000"/>
                </a:solidFill>
                <a:latin typeface="Arial"/>
                <a:ea typeface="Arial"/>
              </a:rPr>
              <a:t>ΕΘΝΙΚΟ ΚΕΝΤΡΟ ΕΡΕΥΝΑΣ ΦΥΣΙΚΩΝ ΕΠΙΣΤΗΜΩΝ «ΔΗΜΟΚΡΙΤΟΣ»</a:t>
            </a:r>
            <a:br>
              <a:rPr sz="1800"/>
            </a:br>
            <a:endParaRPr b="0" lang="en-US" sz="18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8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883" name="Picture 2" descr=""/>
          <p:cNvPicPr/>
          <p:nvPr/>
        </p:nvPicPr>
        <p:blipFill>
          <a:blip r:embed="rId1"/>
          <a:stretch/>
        </p:blipFill>
        <p:spPr>
          <a:xfrm>
            <a:off x="0" y="0"/>
            <a:ext cx="9144000" cy="1368360"/>
          </a:xfrm>
          <a:prstGeom prst="rect">
            <a:avLst/>
          </a:prstGeom>
          <a:ln w="0">
            <a:noFill/>
          </a:ln>
        </p:spPr>
      </p:pic>
      <p:pic>
        <p:nvPicPr>
          <p:cNvPr id="884" name="Picture 3" descr=""/>
          <p:cNvPicPr/>
          <p:nvPr/>
        </p:nvPicPr>
        <p:blipFill>
          <a:blip r:embed="rId2"/>
          <a:stretch/>
        </p:blipFill>
        <p:spPr>
          <a:xfrm>
            <a:off x="1258920" y="2060640"/>
            <a:ext cx="1297080" cy="1528560"/>
          </a:xfrm>
          <a:prstGeom prst="rect">
            <a:avLst/>
          </a:prstGeom>
          <a:ln w="0">
            <a:noFill/>
          </a:ln>
        </p:spPr>
      </p:pic>
      <p:pic>
        <p:nvPicPr>
          <p:cNvPr id="885" name="Picture 4" descr=""/>
          <p:cNvPicPr/>
          <p:nvPr/>
        </p:nvPicPr>
        <p:blipFill>
          <a:blip r:embed="rId3"/>
          <a:stretch/>
        </p:blipFill>
        <p:spPr>
          <a:xfrm>
            <a:off x="6948360" y="1989000"/>
            <a:ext cx="1444680" cy="1573200"/>
          </a:xfrm>
          <a:prstGeom prst="rect">
            <a:avLst/>
          </a:prstGeom>
          <a:ln w="0">
            <a:noFill/>
          </a:ln>
        </p:spPr>
      </p:pic>
      <p:sp>
        <p:nvSpPr>
          <p:cNvPr id="886"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887" name="Rectangle 6"/>
          <p:cNvSpPr/>
          <p:nvPr/>
        </p:nvSpPr>
        <p:spPr>
          <a:xfrm>
            <a:off x="179280" y="5084640"/>
            <a:ext cx="878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800" spc="-1" strike="noStrike">
                <a:solidFill>
                  <a:srgbClr val="000000"/>
                </a:solidFill>
                <a:latin typeface="Arial"/>
                <a:ea typeface="Arial"/>
              </a:rPr>
              <a:t>Εξειδίκευση στις Τ.Π.Ε. και Ειδική Αγωγή – Ψυχοπαιδαγωγική της Ένταξης</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324000" y="1197000"/>
            <a:ext cx="813564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324000" y="1197000"/>
            <a:ext cx="813564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1:55Z</dcterms:modified>
  <cp:revision>2</cp:revision>
  <dc:subject/>
  <dc:title/>
</cp:coreProperties>
</file>